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96345-657C-410C-A0EA-C545CAD9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DDEF-055D-4F21-9388-EB2997CA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8523-0CBF-4928-B52E-F4076DC6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6951-B5EB-4103-B5B7-7DB8E40A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9C95-3686-4D9F-8F2F-1F4D7AB7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A54F-4D33-440D-B45C-5FE802F4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F543-DBA7-4895-8ADB-D6DD9683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F8B8-8744-499D-A031-B05837C6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8948-6543-47B1-9130-EA574698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C008-CAC9-49D5-8CE9-59D12C00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520B-5659-421A-ADDC-AC09240A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4EA9-DF00-4A94-B111-B0F94BE3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6DB0-8581-4485-AE8F-1FD329E2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3CB8-3C67-4032-9921-821D2228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BE6D-6F69-498C-9D49-25119C94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37C6-9D2E-46B6-B25A-4EC71B2C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7186-EDF3-452A-A49B-33FF5681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090C6-101D-4841-981C-76118402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23C2-611A-42D3-A139-26C7DC2E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5B8F-92AC-4E08-9771-FB80D0D7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02F31-1665-435A-8BDB-128EE85E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8D88D-0C09-4D64-8F74-B2B0B6DB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42FD-59E8-4E66-869F-356D016F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99617-E67F-4B09-9C68-D6BAB18A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9292-6E69-4691-BC0E-7ECF76E4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B5E3-AE76-4E3F-8915-4B34AB04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04823-BA97-484F-B966-AB91D22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9B6D-5070-455F-9A7F-992AB5FA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8370C-CBA6-46F5-A661-E5BD1FED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1C30-370A-4B66-A092-3EA8852B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B079-FA9A-4284-87CB-FCD86F5B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AE69-1181-4672-9A6A-0035F2D8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BBE2B-173B-4217-B905-0EFDA6BD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BC68-1A53-44AB-9806-B5CFBF89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A0E53-8068-4C62-884B-CE5DBF8E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CE9E-444B-484F-8B3C-DEB82287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1E5A-0C73-4A78-99DE-46FCC044E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4F9C-23ED-496A-A1A1-9DE6F9554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8655-B245-4BCC-A199-C12FC4C81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s that Build Up A System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ing or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proces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ppy disk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disk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-ROM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ypes of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Software - provides the real functionality of a computer.  It help you use your computer to do specific types of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lications, widely used in all career are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Applications, mo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narrowly focused on specif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isciplines and occup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rcRect l="3751" t="13411" r="11252" b="15080"/>
          <a:stretch/>
        </p:blipFill>
        <p:spPr>
          <a:xfrm>
            <a:off x="5867280" y="609480"/>
            <a:ext cx="2514600" cy="121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6400800" y="5342040"/>
            <a:ext cx="255276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and Line Operating Syst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S is an example of a command line operating sys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DOS OS  there are n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cons (pict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use Poi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have to memorize commands in ord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use this text based operating sys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k Operat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was the first widely installed operating system for personal compu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-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-DOS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is the name of a special program that makes your computer carry out a tas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4"/>
          <p:cNvGraphicFramePr/>
          <p:nvPr/>
        </p:nvGraphicFramePr>
        <p:xfrm>
          <a:off x="609480" y="171360"/>
          <a:ext cx="8001000" cy="604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1360"/>
                    <a:ext cx="8001000" cy="604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User Interface (GU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u GUI, users can interact directly with the opera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ons, Menus, Dialog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Systems: G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stands for Graphical 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066680" y="236232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ictures (icons) to represent files, folder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drives, modems, print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’s were created to make using a comp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, more interesting, non-threate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experienc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use allows users to point at something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ake it work.  With command 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 have all of the command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your program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an example of a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4"/>
          <p:cNvGraphicFramePr/>
          <p:nvPr/>
        </p:nvGraphicFramePr>
        <p:xfrm>
          <a:off x="228600" y="380880"/>
          <a:ext cx="8686800" cy="59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68680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ing or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x or outer shell that houses most of the computer, it is usually one of the most overlooked parts of the P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s the computer circuits, cooling and system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p4"/>
          <p:cNvPicPr/>
          <p:nvPr/>
        </p:nvPicPr>
        <p:blipFill>
          <a:blip r:embed="rId1"/>
          <a:stretch/>
        </p:blipFill>
        <p:spPr>
          <a:xfrm>
            <a:off x="5410080" y="6094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powering every device in your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s of a Power supp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drive conn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boar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voltage se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plugs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2060ad8d-da28-4628-b353-ceee9d6482be"/>
          <p:cNvPicPr/>
          <p:nvPr/>
        </p:nvPicPr>
        <p:blipFill>
          <a:blip r:embed="rId1"/>
          <a:stretch/>
        </p:blipFill>
        <p:spPr>
          <a:xfrm>
            <a:off x="5029200" y="2514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erboa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arrangement in a computer that contains the comput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basic circuitry and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tional) Co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nput/Output System (B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ng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Motherboard-Diagram"/>
          <p:cNvPicPr/>
          <p:nvPr/>
        </p:nvPicPr>
        <p:blipFill>
          <a:blip r:embed="rId1"/>
          <a:stretch/>
        </p:blipFill>
        <p:spPr>
          <a:xfrm>
            <a:off x="914400" y="404640"/>
            <a:ext cx="67057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sion S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m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interface cards/network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 that tell the computer how to process data into the form you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nd programs are interchang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and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ypes of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ystem Software enables the application software to interact with the computer hard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rating Systems are programs that coordinate computer resources, provide an interface between users and the computer; and run applicatio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tilities perform specific tasks related to managing computer resourc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vice drivers are specialized programs designed to allow particular input or output devices to communicate with the rest of the computer syste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a System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resources (memory, processing, storage, and devices like print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2448000" cy="1724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rcRect l="21856" t="12002" r="21856" b="12002"/>
          <a:stretch/>
        </p:blipFill>
        <p:spPr>
          <a:xfrm>
            <a:off x="41148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rcRect l="0" t="2051" r="0" b="17195"/>
          <a:stretch/>
        </p:blipFill>
        <p:spPr>
          <a:xfrm>
            <a:off x="533520" y="4419720"/>
            <a:ext cx="29574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05:58:36Z</dcterms:created>
  <dc:creator>EDUMANGAS</dc:creator>
  <dc:description/>
  <dc:language>en-US</dc:language>
  <cp:lastModifiedBy>kaab zarrar</cp:lastModifiedBy>
  <dcterms:modified xsi:type="dcterms:W3CDTF">2020-03-26T09:28:26Z</dcterms:modified>
  <cp:revision>69</cp:revision>
  <dc:subject/>
  <dc:title>FUNDAMENTALS OF COMPUTER</dc:title>
</cp:coreProperties>
</file>